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C02-414E-42EB-BA5F-74BA9041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FE3-8CA7-4D19-BF12-DCBD4123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975-D497-4A3B-9C17-BECDBF01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2A3-818D-4F84-BE51-77A473D5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6B8-1B53-4699-B7A8-124EA709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DFB-12C7-408B-AAD1-BD47B9FF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580-853E-4B5E-AB7D-129CE08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880-CDB2-4DA9-A53B-253491AA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252-F505-4F7F-95F3-48DEBB4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964-09A7-419B-A664-FEBD1EB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4FB-2083-41F2-BBE6-2ED7CF5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048-D03C-4648-9DBC-03D6F98B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D651-EEF1-4EB0-A8FD-78EC18A87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14680" y="-7128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жими роботи лазері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7988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ізняють наступні режими випромінювання або роботи лазерів та мазер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частот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мод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гатомод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гаточастот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перервний (стаціонарн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пульсний (не стаціонар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1928880" y="4357800"/>
                <a:ext cx="5119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ез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ν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е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1143000" y="5072040"/>
                <a:ext cx="1262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е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Rectangle 7"/>
          <p:cNvSpPr/>
          <p:nvPr/>
        </p:nvSpPr>
        <p:spPr>
          <a:xfrm>
            <a:off x="549720" y="5195520"/>
            <a:ext cx="5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0200" y="51447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рні втрати резонатора за один прохі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928800" y="519120"/>
          <a:ext cx="68580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19120"/>
                    <a:ext cx="68580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0179_0001"/>
          <p:cNvPicPr/>
          <p:nvPr/>
        </p:nvPicPr>
        <p:blipFill>
          <a:blip r:embed="rId1"/>
          <a:srcRect l="2528" t="1446" r="5064" b="3219"/>
          <a:stretch/>
        </p:blipFill>
        <p:spPr>
          <a:xfrm>
            <a:off x="142920" y="357120"/>
            <a:ext cx="6478560" cy="5857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5214960" y="385776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 – Схеми оптико-механічних затв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rcRect l="2437" t="7452" r="4723" b="0"/>
          <a:stretch/>
        </p:blipFill>
        <p:spPr>
          <a:xfrm>
            <a:off x="142920" y="142920"/>
            <a:ext cx="8975520" cy="2928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171000" y="4171320"/>
            <a:ext cx="88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9  – Електрооптичний затвор на основі  ячейки Поккель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rcRect l="0" t="0" r="1984" b="0"/>
          <a:stretch/>
        </p:blipFill>
        <p:spPr>
          <a:xfrm>
            <a:off x="857160" y="214200"/>
            <a:ext cx="7072560" cy="4213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928800" y="4860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 – Схема будови лазера, з акустооптичним  модулятором доброт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286000" y="1785960"/>
                <a:ext cx="3394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lΔω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α</m:t>
                                </m:r>
                              </m:e>
                            </m:d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2714760" y="3000240"/>
                <a:ext cx="2714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"/>
              <p:cNvSpPr txBox="1"/>
              <p:nvPr/>
            </p:nvSpPr>
            <p:spPr>
              <a:xfrm>
                <a:off x="1714680" y="4000680"/>
                <a:ext cx="4595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214200" y="472320"/>
            <a:ext cx="82155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чи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 мод дорівню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, амплітуди мод однакові і рівні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різниця фаз Ф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-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ді результуюче електричне по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ої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илі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а представити 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481640" y="1972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4467240" y="1568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2786040" y="5286240"/>
                <a:ext cx="3065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Δ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rcRect l="1018" t="3186" r="2041" b="0"/>
          <a:stretch/>
        </p:blipFill>
        <p:spPr>
          <a:xfrm>
            <a:off x="214200" y="136440"/>
            <a:ext cx="8715600" cy="557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344" t="2468" r="2352" b="1236"/>
          <a:stretch/>
        </p:blipFill>
        <p:spPr>
          <a:xfrm>
            <a:off x="214200" y="142920"/>
            <a:ext cx="871560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28760" y="108360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для стаціонарної генерац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а лазера в режимі одномодової генер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чинників збудження та флуктуаці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ійність в часі інтенсивності накачки зовнішнього п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мінність параметрів лазера у час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оти лазера в режимі вільної генерації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2920" y="386964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більш поширеними різновидами нестаціонарного режиму 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вільної генер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модульованої добротності (режим гігантських імпульсі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синхронізації м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розвантаження резон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14200" y="55720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Спіральні та лінійні потужні лампи спала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6572160" cy="494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214200" y="55720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 Часові діаграми розвитку генерації випромін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85840" y="62866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 Часові діаграми розвитку генерації випромін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343" t="3552" r="1561" b="1706"/>
          <a:stretch/>
        </p:blipFill>
        <p:spPr>
          <a:xfrm>
            <a:off x="0" y="0"/>
            <a:ext cx="9144000" cy="59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646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5500800" y="27147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3 Випромінювання лазера що працює в режимі вільної гене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rcRect l="0" t="0" r="0" b="1762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571680" y="3571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4Пічковий режим роботи лазера (нерегулярні піч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14200" y="557208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5 Трьох-рівнева схема та залежності відносних населеностей рівнів від спектральної щільності енергії нака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35542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3429000" y="571680"/>
            <a:ext cx="5576760" cy="4695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0" y="0"/>
            <a:ext cx="6215040" cy="6858000"/>
            <a:chOff x="0" y="0"/>
            <a:chExt cx="6215040" cy="685800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46440" y="0"/>
              <a:ext cx="598140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1263600"/>
              <a:ext cx="6215040" cy="559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Box 4"/>
          <p:cNvSpPr/>
          <p:nvPr/>
        </p:nvSpPr>
        <p:spPr>
          <a:xfrm>
            <a:off x="5715000" y="357120"/>
            <a:ext cx="307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6 Часові діаграми формування імпульсу при режимі модульованої доброт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8:54:00Z</dcterms:created>
  <dc:creator>Name</dc:creator>
  <dc:description/>
  <dc:language>en-US</dc:language>
  <cp:lastModifiedBy>admin</cp:lastModifiedBy>
  <dcterms:modified xsi:type="dcterms:W3CDTF">2010-08-27T12:16:52Z</dcterms:modified>
  <cp:revision>45</cp:revision>
  <dc:subject/>
  <dc:title>Слайд 1</dc:title>
</cp:coreProperties>
</file>