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F7E-688F-4038-BEE3-AEE1FDEC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752-D616-4A61-8A4D-1C572101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A0C-B936-4133-8C5A-5EBD687D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801-92AE-4BAB-80E2-25AE37C8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DF6F-B543-4F67-B99E-3FF58178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B1FA-65D3-488C-83FC-6E92437C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3CF8-9273-4C47-84D7-D076EA20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9DC2-77FE-4B19-93A4-69325752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865D-0CA8-46CE-90CB-C27570FD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C95E-2143-48AD-A7CE-34FDD85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F3EC-757B-4928-B85F-E338228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6F0-3891-44ED-A55A-4913A10C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CD37-CD28-4F8A-B2E1-7FA8D446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2095-4A25-458F-8693-693C8B43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371C-70C8-4719-8D20-F4C9C07A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90FE-A9D9-4332-8945-509764EC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4AE-2ECF-4788-9DEB-6C518B51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D26-1C09-44FD-B832-8511B2EB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B98-836A-4796-9CE4-C89DB4F3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0E5-5E51-475F-9A01-C406B8BE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5DD-8A9E-42A6-95A0-537E3B8B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9EB-2DC0-49D1-9E0E-7DCB89E6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532-0654-48ED-A3E0-F886BC09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C11-FE48-4FBD-9881-089980FE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04B9-BFFA-4599-8FC5-F18C17E90B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DF91-27E1-44CD-A16F-2768C32872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cc"/>
                </a:solidFill>
                <a:latin typeface="Tahoma"/>
              </a:rPr>
              <a:t>Виникнення християнств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Основні ідеї християнст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00400" y="129492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Які ви знаєте основні положення християн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Найважливішою відмінністю християнства від інших релігій давнини була повна відмова від національних та майнових бар'єрів у питаннях віри ( віра робила всіх рівними), від жертвоприношень, обрядов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2257200" cy="403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3808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Ісус Христ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Перші християнські громад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Перші християнські громади виникли В Палестині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Перші громади, що визнали нового Бога – Спасителя Христа, з”явилися в Малій Азії ( Ефес, Смірна, Пергам, Тіатір, Сардах, Александрії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Громади вирізнялися простотою організації, відсутністю керівниц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Члени громад улаштовували спільні трапези – збори, на яких виголошувалися проповіді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Для раннього християнства характерна різноманітність угрупувань, течій, між якими не було згоди з найважливіших питань віровченн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Спільним було лише ненависть до Риму і надія на його швидке падіння, віра в пришестя Бога – Спасите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0" y="1600200"/>
          <a:ext cx="21160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0" y="1600200"/>
                    <a:ext cx="2116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629400" y="4800600"/>
            <a:ext cx="1905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Християнський симв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ст. н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Перші християнські громад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ІІ – ІІІ ст. н.е. до християнських громад стали вступати і багаті лю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Із середини ІІ ст. н.е. відбувається утворення церковної організації громад, яка поділялася на клір ( духівництво ) і мир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ервісні трапези перетворилися на богослужін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міцнення зв'язків між громадами привело до створення єдиної християнської церк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авлення римських імператорів до християнства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читайте п.4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 46 і дайте відповіді на запитанн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Що викликало незадоволення римської влади християн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Як карали християн за їх вір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За часів якого імператора християн переслідували особливо жорсток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2252520"/>
            <a:ext cx="37339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авлення римських імператорів до християнства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ля того, щоб уникнути переслідувань, християни стали проводити свої зібрання у римських підземеллях ( катакомбах), що знаходились під Римом та тягнулися на багато кілометрів під земле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 основному вони були від 2,5 до 3 м шириною та 1,2 – 1,5 м висото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Тут християни справляли свої обряди, тут переховувались від чергових репресі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Висно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ристиянство стає однією із світових релігі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ристияни поклонялися одному Бог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План вивче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ричини виникнення християн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Ісус Христо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сновні ідеї християн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ерші християнські грома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тавлення римських імператорів до християн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Опорні поняття теми уро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Христия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Ісус Христо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вангелі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Біблі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Грома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Монотеї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чини виникнення християнст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а які групи поділялося населення Римської імперії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Громадяни, негромадя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і верстви населення не мали громадянських та політичних пра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Раби, жителі провінцій, прийшле населен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і верстви населення були найбільш пригноблені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Раб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о яких форм протесту вдавалися пригноблені верстви римського суспільства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встання, втечі, вбивство, рабовласників, нанесення шкоди господарст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Чи мали вони успіх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сі спроби пригноблених верств населення визволитися закінчувалися поразко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 ви вважаєте, у чому ще могли знайти порятунок знедолені люди в умовах дедалі жорстокішого ставлення до них держав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чини виникнення християнст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игноблене населення Римської імперії не мало громадянських та політичних пра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игноблене населення Римської імперії нещадно грабувалося та експлуатувалося державо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Будь – які спроби невдоволення пригноблених верств населення нещадно придушували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Єдиним порятунком у тих умовах, що склалися в Римській імперії в І ст. н.е., для багатьох людей була ВІРА в те, що з'явиться нова надприродна сила, яка допоможе їм після смерті отримати  нове життя – спокійне і щасли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Такою надприродною силою може стати тільки один БО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чини виникнення християнст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Учення про безсмертя душі й потойбічну відплату лягло в основу нової релігії – ХРИСТИЯ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Християнство виникло в другій половині І ст. н.е. у східних провінціях Римської імперії спочатку в середовищі євреїв, але вже в перші десятиліття набуло поширення й серед інших народно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754600" y="1523880"/>
          <a:ext cx="3160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4600" y="1523880"/>
                    <a:ext cx="3160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715000" y="6172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алестина ( Іудея ) – район виникнення християн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чини виникнення християнст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мазаником Божим, Месією християни вважають Ісуса Хри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ХРИСТОС (від грец. 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«Месія, посланець Божий»)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— Син Божий, який заради спокути людських гріхів прийняв смерть на хресті, потім воскрес і знісся на небес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ІСУС – давньоєврейське ім'я, яке в перекладі на українську мову означає “Бог спасає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547800" cy="3581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8080" y="5638680"/>
            <a:ext cx="3505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Портрет Ісуса — так Його зображали в перші століття після Розп'ятт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Ісус Христос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рочитайте п.2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 46 і дайте відповіді на запитанн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Де народився Ісус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Хто були його бать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Чого навчав Ісус Христос люде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Хто його зрадив? За щ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У що вірять послідовники Ісус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Що таке Євангелі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у літературну пам'ятку називають “Книгою книг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894120" cy="4648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6248520"/>
            <a:ext cx="3733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Ісус Христос. Малюнок у римських катакомб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Зрада Іуд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цілунок Іуди. Мозаїка. Євангелія розповідають, що один з учнів Христа Іуда вирішив зректись вчителя і видати його фарисеям. Оскільки варта не знала Ісуса в обличчя, то Іуда сказав, що солдати мають арештувати того, кого він поцілує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 зраду Іуді заплатили тридцять срібних монет. Проте вони не принесли зрадникові щастя. Від нього всі відвернулися, і, мабуть, усвідомивши мерзенність свого вчинку, Іуда повісив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 того часу вислів «тридцять срібляків» став синонімом зра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14320" y="2490840"/>
            <a:ext cx="3322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ксим</cp:lastModifiedBy>
  <dcterms:modified xsi:type="dcterms:W3CDTF">2012-07-27T07:10:5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