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28.png" ContentType="image/png"/>
  <Override PartName="/ppt/media/image5.jpeg" ContentType="image/jpeg"/>
  <Override PartName="/ppt/media/image27.png" ContentType="image/png"/>
  <Override PartName="/ppt/media/image15.png" ContentType="image/png"/>
  <Override PartName="/ppt/media/image2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26.png" ContentType="image/png"/>
  <Override PartName="/ppt/media/image17.jpeg" ContentType="image/jpeg"/>
  <Override PartName="/ppt/media/image3.png" ContentType="image/png"/>
  <Override PartName="/ppt/media/image4.jpeg" ContentType="image/jpeg"/>
  <Override PartName="/ppt/media/image25.png" ContentType="image/png"/>
  <Override PartName="/ppt/media/image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E6DB-8C8E-4A66-848B-23E2976CF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67AA-4345-4398-B7C7-20AAB1B1A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CDE737-0A47-4215-8E4B-E199EC99F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915B1F-7286-4CC3-BB4C-74AE0FB4F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E96425-39E9-44CC-B4A9-CFEBAF276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9F4AF5-D4E1-499D-BBF3-EAC3783A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B1B72D-02A9-4D03-99F3-33749293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E13CDE-CAD2-4F97-9BB0-07AEBE94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467176-AED6-429F-A14E-5D5F42C7D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BA6CE6-25E8-4887-B95F-8155444F9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5EC068-81BD-4D4E-8166-2F812818F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D755-0672-4F33-934F-6C566E4D9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3839-21C6-4357-9EED-9AC1B5EAF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D40CF-3DDB-4C04-BA5C-9D9AA2F37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61A2C-BB84-420B-81D2-95CC81CE5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2A020-23C3-4ED7-82EA-2D8AA62B3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7BE11-4274-490D-B9A3-FF2BAFFE2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C9537-142E-4623-AC2D-C6924A0AC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3B26E-989F-4C31-BB41-A158BCD33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8D222-9569-4012-B275-9FE7EA0F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6A05-D59D-4FF7-BCA0-4EE57828B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63EEC-713A-4B69-AE02-BDBBDB0E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546B5-48EB-458C-B33D-8BFD389CC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4E616-1381-4D54-9C1A-6D6986318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CDDEF-1B0F-4767-819B-952EFB4A6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44752-4DEC-455D-8176-B0ED1AD61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6EDCE-2B07-4D55-B44F-B31A406C2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AFFDC-2B26-4554-B970-956234F07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7F25B-1C76-41C6-811C-FE83A9DEB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4CC2B-F406-47B5-9283-35D213485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44634-826C-4378-B792-19676F617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0221-D809-46BD-8314-9ED17A28F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A4F0A-32E8-4668-AF23-C06E9882A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AD654-D1DE-4FBD-B789-7EDD5C75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DB163-9F5B-4F8E-A967-96BE830A4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AA660-A713-46D9-BC1E-3D074F59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2C1EE-9192-44AC-B520-0A2CEB88D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08D4C-2BEC-4750-A3EF-6D762614D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FE040-C4C5-41F1-ACE0-EF1BA7DFE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9195C-B23E-4946-8089-ED20C19A4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A13F8-E866-4153-A8FE-59831DB13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27974-8C29-42DE-885D-3B50E1F14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322C-9F9F-41B8-998E-4B70D3B94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6011D-3181-44F8-8560-6EA06E606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93931-60BA-44AD-B649-33000E6C3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419BB-3FA8-483D-AAAC-1193E8425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784A9-58A9-4433-BDE0-93A0CEF3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10DAA-FEF9-4F29-BB26-D9A2B002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CB326-2219-4DDD-B5ED-29DC7C72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5C75D-B7B1-4E23-AA5F-A6BE7D202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73748-9B0D-45B0-A4C2-016A7507C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0C75A-193A-4335-8A6A-33C227A24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4540E1-F2AC-4D72-A415-DA6BFA7DF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A621-C416-442C-A903-661979463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C233A4-A546-4D02-81E7-EFEC38BAF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659261-426A-49C5-A38A-96CFB93BC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C95202-B600-4E5D-9CA5-C3D624757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5AE71-FB9B-451B-8008-DF3782D82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18BB9-4C1F-4CA8-802C-02ED6A289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85540-3C1A-4AC7-AF6E-F7B71D12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829C77-C5D4-4B16-9897-60C6F2828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0EB04-C54B-4B4C-96D3-2EA4CAF2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D0FA64-4757-4BB2-B925-8C8DBCA33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EA431-6E19-4EF5-9EF0-64107879C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9591-B8AA-4EE5-B82F-DC8F02974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5CF6D6-3A2F-4F3C-8F58-70A965AA0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C08C4D-D403-4460-8EE5-EC7092AF5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8E4DBC-4EA8-4F4B-8CF8-2AFF175AC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9A9B8F-8307-41C2-A6DD-F12EB0F13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6D440F-3534-4FBE-9546-070E4E4ED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4D9F23-CE38-4CE5-AD31-C27100375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BD367E-55E5-44A1-8C62-5BB16A232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E7B10C-AE50-46D0-B312-1DD967F2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E2ABBF-02E7-4795-B3E3-BB6966D3A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AABBEA-70FA-435B-9306-C1BBA97D7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2C9E-77AA-48EB-887F-963F26A3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1A93E0-B03E-43F9-BA1C-26350C770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DD979E-BBD3-475C-BBF4-66BF63276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81E2CD-000E-46E0-9B56-90F5CBF57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559E8F-2C51-46FD-8205-6D3B08285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EE0707-606F-4889-B3CB-E27A1E982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C9D68F-67C3-41FC-BB77-B97FE9670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D36CAD-693B-4044-A742-D5288B059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953302-26FA-4583-8106-1662F2DFF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6F0762-0C34-42AE-9F54-355808823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563530-E52E-43E8-85BE-FD4B9A67A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34A8-0007-4182-AA20-9B9E3782A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F987A9-C5C6-491D-BE4F-0FBA4D17C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540D13-637F-4C3D-96C0-A726CCD2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390282-B511-4478-BDC2-532EC8EF8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7395A0-1BE4-4037-97B4-5E6EC2605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7F03AF-4276-43E8-AAE5-C52656AE0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F6B9C4-68FC-4953-929D-964259BD9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86E6E7-B78E-47E7-B1E7-441163C3E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EEBDC9-05B3-4349-92DC-69E540A09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C451D8-BD45-47A5-8F45-8329D369F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983121-83AA-47EA-9F65-747BC793B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DAF6-5D76-46F2-95A7-A130385AC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F8887E-20AB-4E97-9E01-AF5D1B84D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2052BA-2D09-4E00-A47C-0DD3CFAB2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CD98F3-6CAB-4E22-A838-DD6662E54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DA8C97-D29B-4C91-A88C-A7BCEC40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1ACD91-E445-4E6C-BA7D-829623325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6C2F06-0060-4BEF-9268-65885DBBF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29B006-C0B9-4E51-ACE4-F305EC084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0E21B7-3956-45DD-84BF-AF38868B0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D840A0-4C3D-467F-BE21-609880669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50606C-AD30-4C28-B826-0121EEAA3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1b6f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31b6f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31b6f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31b6f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31b6f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aa0d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aa0d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aa0d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FA58B-BADD-4A32-B8C1-F11C9F798C15}" type="slidenum">
              <a:rPr b="0" lang="ru-RU" sz="1200" spc="-1" strike="noStrike">
                <a:solidFill>
                  <a:srgbClr val="2aa0d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73e87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1b6f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31b6f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31b6f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31b6f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31b6f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73e87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aa0d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aa0d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aa0d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2EF3E-8C33-49DB-ADC1-1E89D4B1F579}" type="slidenum">
              <a:rPr b="0" lang="ru-RU" sz="1200" spc="-1" strike="noStrike">
                <a:solidFill>
                  <a:srgbClr val="2aa0d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1b6f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31b6f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31b6f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31b6f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31b6f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73e87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aa0d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aa0d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aa0d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B9131-6EF5-4C6A-86CF-B260E2BCD92B}" type="slidenum">
              <a:rPr b="0" lang="ru-RU" sz="1200" spc="-1" strike="noStrike">
                <a:solidFill>
                  <a:srgbClr val="2aa0d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1b6f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6e7fc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c6e7fc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31b6f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6e7fc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c6e7fc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31b6f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6e7fc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c6e7fc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31b6f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6e7fc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c6e7fc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31b6f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6e7fc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c6e7fc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6e7fc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c6e7fc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6e7fc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c6e7fc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6e7fc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c6e7fc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aa0d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aa0d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aa0d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3C4AA-05F0-4E4E-9D96-77C97246A773}" type="slidenum">
              <a:rPr b="0" lang="ru-RU" sz="1200" spc="-1" strike="noStrike">
                <a:solidFill>
                  <a:srgbClr val="2aa0d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1b6f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31b6f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31b6f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31b6f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31b6f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73e87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aa0d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aa0d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aa0d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CB5D3-3B9B-458D-AB31-C0635FA78D6B}" type="slidenum">
              <a:rPr b="0" lang="ru-RU" sz="1200" spc="-1" strike="noStrike">
                <a:solidFill>
                  <a:srgbClr val="2aa0d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1b6f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31b6f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31b6f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31b6f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31b6f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73e87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aa0d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aa0d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aa0d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3112C-270D-4B41-9AA9-3EDE1182D966}" type="slidenum">
              <a:rPr b="0" lang="ru-RU" sz="1200" spc="-1" strike="noStrike">
                <a:solidFill>
                  <a:srgbClr val="2aa0d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1b6f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31b6f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31b6f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31b6f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31b6f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73e87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aa0d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aa0d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aa0d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2DF66-9244-4FAB-A807-41728E716AE2}" type="slidenum">
              <a:rPr b="0" lang="ru-RU" sz="1200" spc="-1" strike="noStrike">
                <a:solidFill>
                  <a:srgbClr val="2aa0d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1b6f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31b6f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31b6f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31b6f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31b6f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73e87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aa0d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aa0d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aa0d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303C1-4B9A-42C1-9861-ED301515CF9A}" type="slidenum">
              <a:rPr b="0" lang="ru-RU" sz="1200" spc="-1" strike="noStrike">
                <a:solidFill>
                  <a:srgbClr val="2aa0d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1b6f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31b6f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31b6f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31b6f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31b6f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73e87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aa0d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aa0d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aa0d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9F25F-58AD-4CAB-8A5C-9E360BBAA15C}" type="slidenum">
              <a:rPr b="0" lang="ru-RU" sz="1200" spc="-1" strike="noStrike">
                <a:solidFill>
                  <a:srgbClr val="2aa0d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Прямоугольник 3"/>
          <p:cNvSpPr/>
          <p:nvPr/>
        </p:nvSpPr>
        <p:spPr>
          <a:xfrm>
            <a:off x="1604880" y="189000"/>
            <a:ext cx="6279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Bookman Old Style"/>
              </a:rPr>
              <a:t>Водний транспорт </a:t>
            </a: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Bookman Old Style"/>
              </a:rPr>
              <a:t>України</a:t>
            </a: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00" name="Picture 2" descr="http://img-fotki.yandex.ru/get/8/unatan.5/0_46c1_2496b526_orig"/>
          <p:cNvPicPr/>
          <p:nvPr/>
        </p:nvPicPr>
        <p:blipFill>
          <a:blip r:embed="rId1"/>
          <a:srcRect l="0" t="8512" r="0" b="0"/>
          <a:stretch/>
        </p:blipFill>
        <p:spPr>
          <a:xfrm>
            <a:off x="1316160" y="1916280"/>
            <a:ext cx="6632280" cy="4552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Прямоугольник 3"/>
          <p:cNvSpPr/>
          <p:nvPr/>
        </p:nvSpPr>
        <p:spPr>
          <a:xfrm>
            <a:off x="826920" y="4428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Морський транспорт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4" name="Прямоугольник 2"/>
          <p:cNvSpPr/>
          <p:nvPr/>
        </p:nvSpPr>
        <p:spPr>
          <a:xfrm>
            <a:off x="179280" y="620640"/>
            <a:ext cx="871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Україна має сприятливі передумови для розвитку морського транспорту; на півдні її територію омивають води Чорного та Азовського морів, які практично не замерзають і з'єднуються з Середземним морем через протоку Босфор, Марму­рове море і протоку Дарданелли. Загальна довжина морської бере­гової лінії України понад 2000 км Регулярні морські перевезення Чорним й Азовським морями почалися наприкінці XVIII ст.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25" name="Picture 2" descr="http://www.ukrmap.kiev.ua/program2010/g6/rozdil3_files/image190.gif"/>
          <p:cNvPicPr/>
          <p:nvPr/>
        </p:nvPicPr>
        <p:blipFill>
          <a:blip r:embed="rId1"/>
          <a:stretch/>
        </p:blipFill>
        <p:spPr>
          <a:xfrm>
            <a:off x="1619280" y="2637000"/>
            <a:ext cx="5933880" cy="4162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Прямоугольник 3"/>
          <p:cNvSpPr/>
          <p:nvPr/>
        </p:nvSpPr>
        <p:spPr>
          <a:xfrm>
            <a:off x="826920" y="19224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Морський транспорт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7" name="Прямоугольник 2"/>
          <p:cNvSpPr/>
          <p:nvPr/>
        </p:nvSpPr>
        <p:spPr>
          <a:xfrm>
            <a:off x="179280" y="692280"/>
            <a:ext cx="871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Уже в IV—VI ст. Чорне море було судноплавним. Київська Русь (X—XIII ст.) мала стабільні зв'язки з Візантією. Відомі морські по­ходи київських князів на Константинополь. Після перемоги над Туреччиною у 80-х роках XVIII ст. і переходу до Російської імперії Північного Причорномор'я Приазов'я тут виникають порти — Херсон (1778), Севастополь (1788), Одеса (1794). У Миколаєві та Севастополі створено суднобудівні підприємства.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28" name="Picture 4" descr="http://www.ukraine-in.com.ua/UploadFiles/File_45347956Vn.jpg"/>
          <p:cNvPicPr/>
          <p:nvPr/>
        </p:nvPicPr>
        <p:blipFill>
          <a:blip r:embed="rId1"/>
          <a:srcRect l="3014" t="0" r="2536" b="3923"/>
          <a:stretch/>
        </p:blipFill>
        <p:spPr>
          <a:xfrm>
            <a:off x="395280" y="2924280"/>
            <a:ext cx="4032360" cy="3089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29" name="Picture 6" descr="http://www.city.kherson.ua/libs/news/data/upimages/morportt111.JPG"/>
          <p:cNvPicPr/>
          <p:nvPr/>
        </p:nvPicPr>
        <p:blipFill>
          <a:blip r:embed="rId2"/>
          <a:stretch/>
        </p:blipFill>
        <p:spPr>
          <a:xfrm>
            <a:off x="4694400" y="3227400"/>
            <a:ext cx="4178160" cy="2484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Прямоугольник 3"/>
          <p:cNvSpPr/>
          <p:nvPr/>
        </p:nvSpPr>
        <p:spPr>
          <a:xfrm>
            <a:off x="826920" y="19224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Морський транспорт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1" name="Прямоугольник 2"/>
          <p:cNvSpPr/>
          <p:nvPr/>
        </p:nvSpPr>
        <p:spPr>
          <a:xfrm>
            <a:off x="179280" y="76500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З 1978 р. діє одна з найбільших у світі паромна переправа між Іллічівськом і болгарським портом Варна протяжністю 435 км. Для поліпшення зв'язків України з Північним Кавказом споруджено залізнично-паромну переправу через Керченську протоку.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32" name="Picture 2" descr="http://www.ilport.com.ua/ckfinder/userfiles/images/1007.jpg"/>
          <p:cNvPicPr/>
          <p:nvPr/>
        </p:nvPicPr>
        <p:blipFill>
          <a:blip r:embed="rId1"/>
          <a:stretch/>
        </p:blipFill>
        <p:spPr>
          <a:xfrm>
            <a:off x="1619280" y="2276640"/>
            <a:ext cx="6095880" cy="4010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Прямоугольник 3"/>
          <p:cNvSpPr/>
          <p:nvPr/>
        </p:nvSpPr>
        <p:spPr>
          <a:xfrm>
            <a:off x="826920" y="19224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Морський транспорт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4" name="Прямоугольник 2"/>
          <p:cNvSpPr/>
          <p:nvPr/>
        </p:nvSpPr>
        <p:spPr>
          <a:xfrm>
            <a:off x="179280" y="692280"/>
            <a:ext cx="871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Найважливішими морськими портами є Одеса, Ізмаїл, Іллічівськ, Херсон, Миколаїв, Севастополь, Ялта, Феодосія, Керч та ін. Великі) портові міста на берегах Азовського моря — Маріуполь, Бердянські тощо. Через порти Чорного й Азовського морів здійснюються зов­нішньоекономічні зв'язки країни.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35" name="Picture 4" descr="http://vkurse.ua/i/2008-04/portovykh-krizisov.jpg"/>
          <p:cNvPicPr/>
          <p:nvPr/>
        </p:nvPicPr>
        <p:blipFill>
          <a:blip r:embed="rId1"/>
          <a:stretch/>
        </p:blipFill>
        <p:spPr>
          <a:xfrm>
            <a:off x="3895560" y="2492280"/>
            <a:ext cx="5069160" cy="3168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36" name="Picture 6" descr="http://agrobiznes.com.ua/photos/news/2009/07/ukrainskie_porty_uve.jpg"/>
          <p:cNvPicPr/>
          <p:nvPr/>
        </p:nvPicPr>
        <p:blipFill>
          <a:blip r:embed="rId2"/>
          <a:stretch/>
        </p:blipFill>
        <p:spPr>
          <a:xfrm>
            <a:off x="250920" y="2744640"/>
            <a:ext cx="3435120" cy="2664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Прямоугольник 3"/>
          <p:cNvSpPr/>
          <p:nvPr/>
        </p:nvSpPr>
        <p:spPr>
          <a:xfrm>
            <a:off x="826920" y="19224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Морський транспорт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8" name="Прямоугольник 2"/>
          <p:cNvSpPr/>
          <p:nvPr/>
        </p:nvSpPr>
        <p:spPr>
          <a:xfrm>
            <a:off x="179280" y="765000"/>
            <a:ext cx="87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Основними експортними ванта­жами є кам'яне вугілля, залізна руда, кокс, чорні метали, ліс, цу­кор, хімічні продукти тощо; імпортними — машини, устаткування мінерально-сировинні ресурси та ін.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39" name="Picture 2" descr="http://uaprom-image.s3.amazonaws.com/1106748_w640_h640_o12.jpg"/>
          <p:cNvPicPr/>
          <p:nvPr/>
        </p:nvPicPr>
        <p:blipFill>
          <a:blip r:embed="rId1"/>
          <a:srcRect l="0" t="0" r="0" b="19168"/>
          <a:stretch/>
        </p:blipFill>
        <p:spPr>
          <a:xfrm>
            <a:off x="520560" y="2133720"/>
            <a:ext cx="8029800" cy="3382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Прямоугольник 3"/>
          <p:cNvSpPr/>
          <p:nvPr/>
        </p:nvSpPr>
        <p:spPr>
          <a:xfrm>
            <a:off x="826920" y="19224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Морський транспорт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1" name="Прямоугольник 2"/>
          <p:cNvSpPr/>
          <p:nvPr/>
        </p:nvSpPr>
        <p:spPr>
          <a:xfrm>
            <a:off x="179280" y="76500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Основу морського транспорту України становлять Чорноморське (ЧМП), Азовське (АМП) та Українсько-Дунайське (УДП) пароплавства, що володіють транспортним флотом сумарною вантажністю 5,2 млн т і пасажирським флотом на 9,9 тис. місць.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42" name="Picture 2" descr="http://content.foto.mail.ru/list/xek-xek/_blogs/i-127.jpg"/>
          <p:cNvPicPr/>
          <p:nvPr/>
        </p:nvPicPr>
        <p:blipFill>
          <a:blip r:embed="rId1"/>
          <a:stretch/>
        </p:blipFill>
        <p:spPr>
          <a:xfrm>
            <a:off x="901800" y="2133720"/>
            <a:ext cx="7486560" cy="4390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Прямоугольник 3"/>
          <p:cNvSpPr/>
          <p:nvPr/>
        </p:nvSpPr>
        <p:spPr>
          <a:xfrm>
            <a:off x="826920" y="19224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Морський транспорт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4" name="Прямоугольник 2"/>
          <p:cNvSpPr/>
          <p:nvPr/>
        </p:nvSpPr>
        <p:spPr>
          <a:xfrm>
            <a:off x="179280" y="765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На території України розташовані 18 портів, до них належать 175 перевантажувальних комплексів, 8 судноремонтних заводів.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45" name="Рисунок 2" descr="24-4.jpg"/>
          <p:cNvPicPr/>
          <p:nvPr/>
        </p:nvPicPr>
        <p:blipFill>
          <a:blip r:embed="rId1"/>
          <a:stretch/>
        </p:blipFill>
        <p:spPr>
          <a:xfrm>
            <a:off x="311040" y="1471680"/>
            <a:ext cx="8586720" cy="5000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Прямоугольник 3"/>
          <p:cNvSpPr/>
          <p:nvPr/>
        </p:nvSpPr>
        <p:spPr>
          <a:xfrm>
            <a:off x="826920" y="19224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Морський транспорт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7" name="Прямоугольник 2"/>
          <p:cNvSpPr/>
          <p:nvPr/>
        </p:nvSpPr>
        <p:spPr>
          <a:xfrm>
            <a:off x="179280" y="765000"/>
            <a:ext cx="87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Одеса- головний порт України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48" name="Picture 2" descr="http://www.zim.com/res/OdessaPort1.jpg"/>
          <p:cNvPicPr/>
          <p:nvPr/>
        </p:nvPicPr>
        <p:blipFill>
          <a:blip r:embed="rId1"/>
          <a:stretch/>
        </p:blipFill>
        <p:spPr>
          <a:xfrm>
            <a:off x="1332000" y="1322280"/>
            <a:ext cx="6854760" cy="5131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Прямоугольник 3"/>
          <p:cNvSpPr/>
          <p:nvPr/>
        </p:nvSpPr>
        <p:spPr>
          <a:xfrm>
            <a:off x="826920" y="19224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Морський транспорт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0" name="Прямоугольник 2"/>
          <p:cNvSpPr/>
          <p:nvPr/>
        </p:nvSpPr>
        <p:spPr>
          <a:xfrm>
            <a:off x="468360" y="765000"/>
            <a:ext cx="842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Одеський порт є одним з перевалочних пунктів на шляху міжнародних транспортних коридорів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ан-європейський транспортний коридор №9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51" name="Picture 2" descr="http://www.port.odessa.ua/koridor_pic/map0-r.jpg"/>
          <p:cNvPicPr/>
          <p:nvPr/>
        </p:nvPicPr>
        <p:blipFill>
          <a:blip r:embed="rId1"/>
          <a:stretch/>
        </p:blipFill>
        <p:spPr>
          <a:xfrm>
            <a:off x="2556000" y="1844640"/>
            <a:ext cx="4398840" cy="4824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Прямоугольник 3"/>
          <p:cNvSpPr/>
          <p:nvPr/>
        </p:nvSpPr>
        <p:spPr>
          <a:xfrm>
            <a:off x="826920" y="19224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Морський транспорт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3" name="Прямоугольник 2"/>
          <p:cNvSpPr/>
          <p:nvPr/>
        </p:nvSpPr>
        <p:spPr>
          <a:xfrm>
            <a:off x="468360" y="765000"/>
            <a:ext cx="842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Одеський порт є одним з перевалочних пунктів на шляху міжнародних транспортних коридорів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Міжнародний транспортний коридор Гданськ-Одеса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54" name="Picture 2" descr="http://www.port.odessa.ua/koridor_pic/map1-r.jpg"/>
          <p:cNvPicPr/>
          <p:nvPr/>
        </p:nvPicPr>
        <p:blipFill>
          <a:blip r:embed="rId1"/>
          <a:stretch/>
        </p:blipFill>
        <p:spPr>
          <a:xfrm>
            <a:off x="2185920" y="2243160"/>
            <a:ext cx="5122800" cy="4281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Прямоугольник 3"/>
          <p:cNvSpPr/>
          <p:nvPr/>
        </p:nvSpPr>
        <p:spPr>
          <a:xfrm>
            <a:off x="179280" y="189000"/>
            <a:ext cx="878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Водний транспорт давніший за походженням, аніж сухопутний. Він використовувався майже всіма народами ще з часів мезоліту (близько 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VIII 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тис. до н. є.). У кожній кліматичній зоні застосовувалися на водоймах найрізноманітніші типи пристосувань для транспортування людей і вантажів, а також для рибальства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02" name="Рисунок 1" descr=""/>
          <p:cNvPicPr/>
          <p:nvPr/>
        </p:nvPicPr>
        <p:blipFill>
          <a:blip r:embed="rId1"/>
          <a:stretch/>
        </p:blipFill>
        <p:spPr>
          <a:xfrm>
            <a:off x="1643040" y="1773360"/>
            <a:ext cx="6168960" cy="462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Прямоугольник 3"/>
          <p:cNvSpPr/>
          <p:nvPr/>
        </p:nvSpPr>
        <p:spPr>
          <a:xfrm>
            <a:off x="826920" y="19224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Морський транспорт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6" name="Прямоугольник 2"/>
          <p:cNvSpPr/>
          <p:nvPr/>
        </p:nvSpPr>
        <p:spPr>
          <a:xfrm>
            <a:off x="468360" y="828720"/>
            <a:ext cx="842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Одеський порт є одним з перевалочних пунктів на шляху міжнародних транспортних коридорів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Транспортний коридор Європа - Кавказ - Азія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57" name="Picture 8" descr="http://portnews.ru/attachment/d276395ae339100609ac2cba48f7d7867b69679b"/>
          <p:cNvPicPr/>
          <p:nvPr/>
        </p:nvPicPr>
        <p:blipFill>
          <a:blip r:embed="rId1"/>
          <a:stretch/>
        </p:blipFill>
        <p:spPr>
          <a:xfrm>
            <a:off x="1547640" y="1916280"/>
            <a:ext cx="6445440" cy="4825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Прямоугольник 3"/>
          <p:cNvSpPr/>
          <p:nvPr/>
        </p:nvSpPr>
        <p:spPr>
          <a:xfrm>
            <a:off x="876240" y="16668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Морський транспорт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9" name="Прямоугольник 2"/>
          <p:cNvSpPr/>
          <p:nvPr/>
        </p:nvSpPr>
        <p:spPr>
          <a:xfrm>
            <a:off x="1619280" y="922320"/>
            <a:ext cx="59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Із загального обсягу вивезення вантажів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60" name="Диаграмма 1" descr=""/>
          <p:cNvPicPr/>
          <p:nvPr/>
        </p:nvPicPr>
        <p:blipFill>
          <a:blip r:embed="rId1"/>
          <a:stretch/>
        </p:blipFill>
        <p:spPr>
          <a:xfrm>
            <a:off x="1136520" y="1433520"/>
            <a:ext cx="7182000" cy="51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Прямоугольник 3"/>
          <p:cNvSpPr/>
          <p:nvPr/>
        </p:nvSpPr>
        <p:spPr>
          <a:xfrm>
            <a:off x="826920" y="19224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Річковий транспорт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4" name="Прямоугольник 2"/>
          <p:cNvSpPr/>
          <p:nvPr/>
        </p:nvSpPr>
        <p:spPr>
          <a:xfrm>
            <a:off x="179280" y="86508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же у період Київської Русі був відомий у Європі шлях «із варяг у греки», який проходив Дніпром через Київ і з'єднував Балтійське море з Візантійською столицею Константинополем. Тоді ж, за свідченнями давньоруських літописців, по Дністру транспортували сіль із Прикарпаття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05" name="Рисунок 4" descr=""/>
          <p:cNvPicPr/>
          <p:nvPr/>
        </p:nvPicPr>
        <p:blipFill>
          <a:blip r:embed="rId1"/>
          <a:stretch/>
        </p:blipFill>
        <p:spPr>
          <a:xfrm>
            <a:off x="5648400" y="2101680"/>
            <a:ext cx="3244680" cy="46879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2" descr="http://upload.wikimedia.org/wikipedia/commons/thumb/d/dd/Varangian_routes.png/350px-Varangian_routes.png"/>
          <p:cNvPicPr/>
          <p:nvPr/>
        </p:nvPicPr>
        <p:blipFill>
          <a:blip r:embed="rId2"/>
          <a:stretch/>
        </p:blipFill>
        <p:spPr>
          <a:xfrm>
            <a:off x="316080" y="2630520"/>
            <a:ext cx="5091120" cy="3535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Прямоугольник 3"/>
          <p:cNvSpPr/>
          <p:nvPr/>
        </p:nvSpPr>
        <p:spPr>
          <a:xfrm>
            <a:off x="826920" y="19224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Річковий транспорт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8" name="Прямоугольник 2"/>
          <p:cNvSpPr/>
          <p:nvPr/>
        </p:nvSpPr>
        <p:spPr>
          <a:xfrm>
            <a:off x="179280" y="765000"/>
            <a:ext cx="871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У XIV—XVII ст. у зв'язку з розвитком внутрішньої і зовнішньої торгівлі роль водних артерій України ще більше зросла. Особливо важливого значення вони набули на Поліссі, де не вистачало сухопутних комунікацій, а наявні через специфічність місцевих природних факторів весною і восени часто ставали непридатними для транспортно-виробничої діяльності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09" name="Picture 2" descr="http://upload.wikimedia.org/wikipedia/commons/thumb/7/7c/Mariupol_st_ptistan.jpg/400px-Mariupol_st_ptistan.jpg"/>
          <p:cNvPicPr/>
          <p:nvPr/>
        </p:nvPicPr>
        <p:blipFill>
          <a:blip r:embed="rId1"/>
          <a:stretch/>
        </p:blipFill>
        <p:spPr>
          <a:xfrm>
            <a:off x="1692360" y="2509920"/>
            <a:ext cx="6497640" cy="4159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Прямоугольник 3"/>
          <p:cNvSpPr/>
          <p:nvPr/>
        </p:nvSpPr>
        <p:spPr>
          <a:xfrm>
            <a:off x="826920" y="19224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Річковий транспорт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1" name="Прямоугольник 2"/>
          <p:cNvSpPr/>
          <p:nvPr/>
        </p:nvSpPr>
        <p:spPr>
          <a:xfrm>
            <a:off x="179280" y="765000"/>
            <a:ext cx="871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Наприкінці XVIII — у XIX ст. у басейнах рік Дніпра і Прип'яті споруджуються штучні водні траси-канали — Дніпровсько-Бузький, Огінський, Березінський. Вони сприяли розширенню торговельно-економічних зв'язків населення Середнього Подніпров'я та Полісся з білорусами, поляками, народами Прибалтики і всього Балтійського водного басейну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12" name="Picture 4" descr="http://leksika.com.ua/imag/bsue8/60_331.jpg"/>
          <p:cNvPicPr/>
          <p:nvPr/>
        </p:nvPicPr>
        <p:blipFill>
          <a:blip r:embed="rId1"/>
          <a:srcRect l="8680" t="24360" r="5983" b="1245"/>
          <a:stretch/>
        </p:blipFill>
        <p:spPr>
          <a:xfrm>
            <a:off x="2889360" y="2276640"/>
            <a:ext cx="3411360" cy="4416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Прямоугольник 3"/>
          <p:cNvSpPr/>
          <p:nvPr/>
        </p:nvSpPr>
        <p:spPr>
          <a:xfrm>
            <a:off x="826920" y="19224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Річковий транспорт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4" name="Прямоугольник 2"/>
          <p:cNvSpPr/>
          <p:nvPr/>
        </p:nvSpPr>
        <p:spPr>
          <a:xfrm>
            <a:off x="179280" y="765000"/>
            <a:ext cx="871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Штучними водними трасами і місцевими ріками активно перевозили продукти лісу, будівельні матеріали, хліб, промислові й ремісничі вироби тощо. Широко використовувалися для транспортування різноманітних товарів також Сіверський Донець, Інгулець, Південний Буг, Західний Буг, Тиса, Прут, Дністер. По Дністру, наприклад, сплавляли до чорноморських портів та в країни Південної Європи будівельний ліс, пиломатеріали (ґонт, дошки, бруси), вироби з дерева, залізо з Карпат, сіль з Гуцульщини та Покуття, хліб, олію, тканини, фосфорити та інші вантажі з Поділля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15" name="Picture 2" descr="http://geosite.com.ua/t4/vodnui_transport.jpeg"/>
          <p:cNvPicPr/>
          <p:nvPr/>
        </p:nvPicPr>
        <p:blipFill>
          <a:blip r:embed="rId1"/>
          <a:stretch/>
        </p:blipFill>
        <p:spPr>
          <a:xfrm>
            <a:off x="2556000" y="3429000"/>
            <a:ext cx="4411440" cy="3024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Рисунок 3" descr="350px-Ukraina.png"/>
          <p:cNvPicPr/>
          <p:nvPr/>
        </p:nvPicPr>
        <p:blipFill>
          <a:blip r:embed="rId1"/>
          <a:stretch/>
        </p:blipFill>
        <p:spPr>
          <a:xfrm>
            <a:off x="369720" y="425520"/>
            <a:ext cx="8407440" cy="58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Прямоугольник 3"/>
          <p:cNvSpPr/>
          <p:nvPr/>
        </p:nvSpPr>
        <p:spPr>
          <a:xfrm>
            <a:off x="826920" y="19224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Річковий транспорт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8" name="Прямоугольник 2"/>
          <p:cNvSpPr/>
          <p:nvPr/>
        </p:nvSpPr>
        <p:spPr>
          <a:xfrm>
            <a:off x="179280" y="865080"/>
            <a:ext cx="871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Транспортують: ліс, нафта, нафтопродукти, зерно, будівельні матеріали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19" name="Рисунок 1" descr=""/>
          <p:cNvPicPr/>
          <p:nvPr/>
        </p:nvPicPr>
        <p:blipFill>
          <a:blip r:embed="rId1"/>
          <a:stretch/>
        </p:blipFill>
        <p:spPr>
          <a:xfrm>
            <a:off x="1284120" y="1989000"/>
            <a:ext cx="6743880" cy="4214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Прямоугольник 3"/>
          <p:cNvSpPr/>
          <p:nvPr/>
        </p:nvSpPr>
        <p:spPr>
          <a:xfrm>
            <a:off x="826920" y="19224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Річковий транспорт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1" name="Прямоугольник 2"/>
          <p:cNvSpPr/>
          <p:nvPr/>
        </p:nvSpPr>
        <p:spPr>
          <a:xfrm>
            <a:off x="179280" y="765000"/>
            <a:ext cx="87138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На внутрішні перевезення припадає – 75%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В основному перевозять будівельні матеріали – 96 %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Довжина водних шляхів близько 2,4 тис км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Судноплавні річки: Дніпро з Десною та Прип'яттю, Південний Буг, Сіверський Донець, Дністер, Дунай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Найбільший обсяг вантажних перевезень здійснюють Київська, Дніпропетровська, Запорізька і Херсонська області.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22" name="Picture 2" descr="http://buvr.vn.ua/uploads/news/%D0%9A%D0%B0%D1%80%D1%82%D0%B0_%D0%B1%D0%B0%D1%81%D0%B5%D0%B9%D0%BD%D1%83_%D1%84%D0%B7.jpg"/>
          <p:cNvPicPr/>
          <p:nvPr/>
        </p:nvPicPr>
        <p:blipFill>
          <a:blip r:embed="rId1"/>
          <a:srcRect l="3307" t="4626" r="2787" b="1717"/>
          <a:stretch/>
        </p:blipFill>
        <p:spPr>
          <a:xfrm>
            <a:off x="1998720" y="3011400"/>
            <a:ext cx="4949640" cy="3714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3T14:54:11Z</dcterms:created>
  <dc:creator>Виталий</dc:creator>
  <dc:description/>
  <dc:language>en-US</dc:language>
  <cp:lastModifiedBy>Виталий</cp:lastModifiedBy>
  <dcterms:modified xsi:type="dcterms:W3CDTF">2011-02-13T16:27:06Z</dcterms:modified>
  <cp:revision>14</cp:revision>
  <dc:subject/>
  <dc:title>Презентация PowerPoint</dc:title>
</cp:coreProperties>
</file>