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23.png" ContentType="image/pn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37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9D1-C4FA-453B-812E-3F31250A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DE3-95E9-4B42-A370-0F23F8D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5DB-99C1-4AA1-8A4C-47494193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121-5CD5-4692-8700-4D641D99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2FB2-E442-4A9D-9AC6-A60726F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056-DEAF-44BB-AFC6-983E9728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C380-7ABE-441E-9384-29F49DF0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CBDE-FB49-4587-91D0-107CA7DE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860-C00E-4068-9D32-AE38211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CAA4-6D4B-445A-8917-CCCC9749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EDCD-F687-41AF-9927-AE877E6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88A-4908-44AF-AC5B-BEE27AB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7CF0-7D6A-4EBA-93D2-B7486C6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8216-8688-4DDA-86CD-3B39BA2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4D5C-8AB6-4B19-88F6-0AB21FD8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0034-581A-429D-B9D8-B331C04B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4916-39E4-410A-9F15-C5B82C1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D1FA4-A0BB-4109-BB3F-096832E3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FDB82-16CC-4EA1-A9D3-ECE0491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B01B4-C4AF-4597-B9FD-44DF1DA9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AEBE8-545B-46C5-BCDC-947F55F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EBD3A-34BB-47B8-ACBC-BB20C50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FCC-A680-4BCC-A376-BB387B13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A00EA-48B4-40C0-938D-AD615407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A7009-D356-466C-B30D-E3907CD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11204-1053-4E29-B23E-2630453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C830E-B3A6-40DA-BAB4-53C71F67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04456-E7CC-4C4C-B076-E3B7851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36156-76FB-4116-8507-F1CC2815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A30D4-4BF1-4DB6-B5EC-0EECF6B7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AF59-5A69-4323-BA98-33938873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C982-0352-45EB-98E3-79D4F74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573F-7A92-4D12-A550-93D5489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238-8125-452D-B767-C844076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2AB2-1EF8-49A0-AB0C-D2B6D33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F587-B825-4348-AD3C-81AE068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1B631-4DB7-48AE-AE2B-A1C8B4C7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556F-3E35-4D30-BED0-47CF4714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E44F-C6EB-4D28-AB7A-7DAA859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248D-CF9C-463A-A1BA-AD374F1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F0E4-2755-4BA9-B02A-2C875FFC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F189-BC8C-4DB8-AF27-3E7F3B14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E725-1E43-49C9-AE41-61517BD0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43D54-7C47-4879-834B-4F2D92BC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0A1-828E-477C-A5D8-8DF6F3F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AA75E-100F-462E-9ED2-A01719A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9157C-32FC-4B5D-ABB4-A5F9C0F9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CF7A9-E344-4CC1-A590-4A0E32B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E4426-D4ED-406B-8B38-01681D70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9C379-F2DE-499E-A09B-F23139A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B1373-6B8C-4E49-B62F-594F199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B908C-00CE-44E0-A41B-C05A55D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DB85A-596C-4BA2-A6C5-96CA4F8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05532-2A25-4B74-9A38-DDCE6FB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47990-DD7F-4053-96B5-07EC2FF9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6A9-45DC-48A1-8E24-CC3EF2B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1DDE8-2516-44E5-8D6F-B99BDADE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C260E-376F-4E2D-A064-6E494323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C6593-896B-41CC-AAF7-EFDE174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17966-2621-497A-8954-281E8760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4F9E7-87AB-42DD-8D97-C460C323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1DF9E-8656-4956-AD18-B0F5EE89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5D4AD-3700-46FF-A96E-CCA7C2D5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84448-2617-49DC-B1DF-AC06FF9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6BEE5-0730-486D-8442-7C4A9F6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77C2A-84AC-4E50-B7EA-F44E520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2C-174C-4A2F-BB76-46C60FF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BBABA-4150-4D74-A809-46E11A6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BF822-985D-43EF-B31E-0B4B58D2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7D1E8-1290-4C0D-AEBB-1C8B32A9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69DC4-7C9C-4EF6-8828-4E7A41A7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FFA78-6532-49DD-8EDF-5241339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658E2-332D-4FD6-89DF-B12616E7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E7940-051B-4EF0-BCE0-B235743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157F0-2AE6-492C-AEB3-BAB67985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4766A-F64B-44E7-8480-0202911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81F51-8C52-4981-9124-932EFED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490-7223-4728-8632-82ACA59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63E72-12D2-406B-9A17-33EE7C5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277B8-C357-41E1-A289-D322952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A9E8F-35A1-4334-AC28-E1BD8B1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567F6-7EE9-4063-ABF7-3607B565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6A85B-3F9F-46E1-B641-986A723E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E10-432C-47FB-AA2B-66027F35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F190-42F0-4463-B5C1-C6DD2B1DF5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кут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кут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кут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 сполучна ліні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 сполучна ліні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 сполучна ліні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 сполучна ліні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 сполучна ліні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кут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21F3-BB83-480C-86FA-79163F60D5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13EA-76BF-4167-AE5A-33EC2F8324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 сполучна ліні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 сполучна ліні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 сполучна ліні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 сполучна ліні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 сполучна ліні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8DC-71FA-4F6A-81C9-CECB8C011A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6E33-4BE6-45A3-B054-FA45BBB91F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 сполучна ліні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 сполучна ліні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 сполучна ліні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408-3A6C-43CB-8D38-8AFBAF218C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 сполучна ліні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 сполучна ліні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 сполучна ліні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 сполучна ліні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176-4D03-4F22-B72C-CE522DD7E4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5960" y="357120"/>
            <a:ext cx="7143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Bookman Old Style"/>
              </a:rPr>
              <a:t>ГАЛУЗЕВА СТРУКТУРА РОСЛИННИЦТ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000160" y="857160"/>
            <a:ext cx="671508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Рільниц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Зернові культур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руп'ян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Зерново-бобов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Технічні культу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артопля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Овочів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Садів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рощування баштанних культ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нограда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Ягідниц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Вирощування кормових культу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1908000" y="189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Також вирощують соняшник та р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://borvisti.com.ua/foto/439_01.jpg"/>
          <p:cNvPicPr/>
          <p:nvPr/>
        </p:nvPicPr>
        <p:blipFill>
          <a:blip r:embed="rId1"/>
          <a:stretch/>
        </p:blipFill>
        <p:spPr>
          <a:xfrm>
            <a:off x="2066760" y="692280"/>
            <a:ext cx="4376880" cy="3286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www.agrotimes.net/uploads/posts/1259838962_rapes_field.jpg"/>
          <p:cNvPicPr/>
          <p:nvPr/>
        </p:nvPicPr>
        <p:blipFill>
          <a:blip r:embed="rId2"/>
          <a:stretch/>
        </p:blipFill>
        <p:spPr>
          <a:xfrm>
            <a:off x="4788000" y="3591000"/>
            <a:ext cx="4132080" cy="31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908000" y="189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Збільшилась кількість посівів со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agrobiznes.com.ua/photos/news/2009/05/u_brazilii_bude_viro.jpg"/>
          <p:cNvPicPr/>
          <p:nvPr/>
        </p:nvPicPr>
        <p:blipFill>
          <a:blip r:embed="rId1"/>
          <a:stretch/>
        </p:blipFill>
        <p:spPr>
          <a:xfrm>
            <a:off x="1908000" y="61128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://uznaika.com/uploads/posts/2009-02/1235807280_soja6.jpg"/>
          <p:cNvPicPr/>
          <p:nvPr/>
        </p:nvPicPr>
        <p:blipFill>
          <a:blip r:embed="rId2"/>
          <a:stretch/>
        </p:blipFill>
        <p:spPr>
          <a:xfrm>
            <a:off x="5288040" y="3068640"/>
            <a:ext cx="3619440" cy="36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28880" y="42876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ЗЕРНОВІ ТА ЗЕРНОБОБОВІ КУЛЬТУР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Діаграма 4" descr=""/>
          <p:cNvPicPr/>
          <p:nvPr/>
        </p:nvPicPr>
        <p:blipFill>
          <a:blip r:embed="rId1"/>
          <a:stretch/>
        </p:blipFill>
        <p:spPr>
          <a:xfrm>
            <a:off x="2357280" y="1428840"/>
            <a:ext cx="609624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ЦУКРОВІ БУРЯК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Діаграма 4" descr=""/>
          <p:cNvPicPr/>
          <p:nvPr/>
        </p:nvPicPr>
        <p:blipFill>
          <a:blip r:embed="rId1"/>
          <a:stretch/>
        </p:blipFill>
        <p:spPr>
          <a:xfrm>
            <a:off x="2357280" y="1428840"/>
            <a:ext cx="609624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28880" y="64260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СОНЯШНИК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Діагра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120080" cy="496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28880" y="49968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КАРТОПЛЯ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Діагра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0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www.propozitsiya.com/image.cgi?id=1534&amp;randid=kmFDRn"/>
          <p:cNvPicPr/>
          <p:nvPr/>
        </p:nvPicPr>
        <p:blipFill>
          <a:blip r:embed="rId1"/>
          <a:stretch/>
        </p:blipFill>
        <p:spPr>
          <a:xfrm>
            <a:off x="3780000" y="115920"/>
            <a:ext cx="3108240" cy="288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agromark.com.ua/uploads/images/FAN2025449.JPG"/>
          <p:cNvPicPr/>
          <p:nvPr/>
        </p:nvPicPr>
        <p:blipFill>
          <a:blip r:embed="rId2"/>
          <a:stretch/>
        </p:blipFill>
        <p:spPr>
          <a:xfrm>
            <a:off x="2124000" y="3357720"/>
            <a:ext cx="6667560" cy="29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71438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ОВОЧІ ВІДКРИТОГО ҐРУНТУ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Діаграма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263000" cy="510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upi.org.ua/_nw/100/66980678.jpg"/>
          <p:cNvPicPr/>
          <p:nvPr/>
        </p:nvPicPr>
        <p:blipFill>
          <a:blip r:embed="rId1"/>
          <a:stretch/>
        </p:blipFill>
        <p:spPr>
          <a:xfrm>
            <a:off x="2195640" y="189000"/>
            <a:ext cx="3024000" cy="2184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turas.te.ua/files/rediska8.jpg"/>
          <p:cNvPicPr/>
          <p:nvPr/>
        </p:nvPicPr>
        <p:blipFill>
          <a:blip r:embed="rId2"/>
          <a:stretch/>
        </p:blipFill>
        <p:spPr>
          <a:xfrm>
            <a:off x="5651640" y="189000"/>
            <a:ext cx="2881080" cy="2165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agroportal.org.ua/userfiles/tomatoes%20ii.jpg"/>
          <p:cNvPicPr/>
          <p:nvPr/>
        </p:nvPicPr>
        <p:blipFill>
          <a:blip r:embed="rId3"/>
          <a:stretch/>
        </p:blipFill>
        <p:spPr>
          <a:xfrm>
            <a:off x="1998720" y="2924280"/>
            <a:ext cx="3417840" cy="3608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http://agroua.net/img/plant/catalog/sorts/299.jpg"/>
          <p:cNvPicPr/>
          <p:nvPr/>
        </p:nvPicPr>
        <p:blipFill>
          <a:blip r:embed="rId4"/>
          <a:srcRect l="0" t="1952" r="0" b="0"/>
          <a:stretch/>
        </p:blipFill>
        <p:spPr>
          <a:xfrm>
            <a:off x="5724360" y="2924280"/>
            <a:ext cx="3024360" cy="361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28880" y="499680"/>
            <a:ext cx="7143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75f6d"/>
                </a:solidFill>
                <a:latin typeface="Bookman Old Style"/>
              </a:rPr>
              <a:t>ПОСІВНІ ПЛОЩІ  ОСНОВНИХ СІЛЬСЬКОГОСПОДАРСЬКИХ КУЛЬТУР, ТИС. ГА (2004-2008)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75f6d"/>
                </a:solidFill>
                <a:latin typeface="Century Schoolbook"/>
              </a:rPr>
              <a:t> КОРМОВІ КУЛЬТУР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Діаграма 3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03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85960" y="571320"/>
            <a:ext cx="7143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Bookman Old Style"/>
              </a:rPr>
              <a:t>ПРИРОДНІ УМОВИ ДЛЯ РОСТУ КУЛЬТУРНИХ РОСЛИН НА ТЕРЕНАХ УКРАЇН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071800" y="1501920"/>
          <a:ext cx="6786360" cy="4784760"/>
        </p:xfrm>
        <a:graphic>
          <a:graphicData uri="http://schemas.openxmlformats.org/drawingml/2006/table">
            <a:tbl>
              <a:tblPr/>
              <a:tblGrid>
                <a:gridCol w="1357200"/>
                <a:gridCol w="1357200"/>
                <a:gridCol w="1357560"/>
                <a:gridCol w="1357200"/>
                <a:gridCol w="1357200"/>
              </a:tblGrid>
              <a:tr h="115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гетаційний період,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обхідна сума активних температур, ˚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обхідна кількість вологи на 1м сухої речовин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йбільш сприятливі ґру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18720">
                      <a:solidFill>
                        <a:srgbClr val="fdf5d5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рова пшени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-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-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, каштан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1872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зима пшени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50-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укуруд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1-2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, каштан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0-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-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ьон-довгунец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5-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50-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укровий буря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-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-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орнозе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ртоп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-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-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рново-підзоли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df5d5"/>
                      </a:solidFill>
                    </a:lnL>
                    <a:lnR w="5760">
                      <a:solidFill>
                        <a:srgbClr val="fdf5d5"/>
                      </a:solidFill>
                    </a:lnR>
                    <a:lnT w="5760">
                      <a:solidFill>
                        <a:srgbClr val="fdf5d5"/>
                      </a:solidFill>
                    </a:lnT>
                    <a:lnB w="5760">
                      <a:solidFill>
                        <a:srgbClr val="fdf5d5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www.agroexpert.kiev.ua/typo3temp/pics/275d668049.jpg"/>
          <p:cNvPicPr/>
          <p:nvPr/>
        </p:nvPicPr>
        <p:blipFill>
          <a:blip r:embed="rId1"/>
          <a:stretch/>
        </p:blipFill>
        <p:spPr>
          <a:xfrm>
            <a:off x="1908000" y="349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1"/>
          <p:cNvSpPr/>
          <p:nvPr/>
        </p:nvSpPr>
        <p:spPr>
          <a:xfrm>
            <a:off x="2825280" y="26272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http://www.propozitsiya.com/image.cgi?id=2068&amp;randid=VFFVw9"/>
          <p:cNvPicPr/>
          <p:nvPr/>
        </p:nvPicPr>
        <p:blipFill>
          <a:blip r:embed="rId2"/>
          <a:stretch/>
        </p:blipFill>
        <p:spPr>
          <a:xfrm>
            <a:off x="5292720" y="349200"/>
            <a:ext cx="3214800" cy="21430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6"/>
          <p:cNvSpPr/>
          <p:nvPr/>
        </p:nvSpPr>
        <p:spPr>
          <a:xfrm>
            <a:off x="6687000" y="2627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іп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organic.ua/images/stories/wnews/ljucerna-velyka.jpg"/>
          <p:cNvPicPr/>
          <p:nvPr/>
        </p:nvPicPr>
        <p:blipFill>
          <a:blip r:embed="rId3"/>
          <a:stretch/>
        </p:blipFill>
        <p:spPr>
          <a:xfrm>
            <a:off x="1835280" y="3346560"/>
            <a:ext cx="3213000" cy="20984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8"/>
          <p:cNvSpPr/>
          <p:nvPr/>
        </p:nvSpPr>
        <p:spPr>
          <a:xfrm>
            <a:off x="2964600" y="57326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Люце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http://school.xvatit.com/images/d/d8/%D0%9C%D0%B0%D0%BB._177._%D0%91%D0%BE%D0%B1%D0%BE%D0%B2%D1%96_-_%D0%BA%D0%BE%D1%80%D0%BC%D0%BE%D0%B2%D1%96_%D1%96_%D0%BC%D0%B5%D0%B4%D0%BE%D0%BD%D0%BE%D1%81%D0%BD%D1%96_%D0%BA%D1%83%D0%BB%D1%8C%D1%82%D1%83%D1%80%D0%B8.jpg"/>
          <p:cNvPicPr/>
          <p:nvPr/>
        </p:nvPicPr>
        <p:blipFill>
          <a:blip r:embed="rId4"/>
          <a:srcRect l="4288" t="3532" r="4966" b="2709"/>
          <a:stretch/>
        </p:blipFill>
        <p:spPr>
          <a:xfrm>
            <a:off x="5319720" y="3002040"/>
            <a:ext cx="321948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286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75f6d"/>
                </a:solidFill>
                <a:latin typeface="Bookman Old Style"/>
              </a:rPr>
              <a:t>ВИРОБНИЦТВО ОСНОВНИХ СІЛЬСЬКОГОСПОДАРСЬКИХ КУЛЬТУР У 2009 РОЦІ, ТИС. Т. (СТАНОМ НА 1ВЕРЕСНЯ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Діагра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334280" cy="51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3"/>
          <p:cNvSpPr/>
          <p:nvPr/>
        </p:nvSpPr>
        <p:spPr>
          <a:xfrm>
            <a:off x="1835280" y="189000"/>
            <a:ext cx="70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еред областей рослинництва найважливішим є зернове господарство. Зернове господарство формує продовольчий фонд і поставляє фуражне зерно тваринництву, створює резервні державні запаси зерна і дає продукцію на ек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У структурі виробництва зерна більше половини припадає на озиму пшениц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Диаграмма 6" descr=""/>
          <p:cNvPicPr/>
          <p:nvPr/>
        </p:nvPicPr>
        <p:blipFill>
          <a:blip r:embed="rId1"/>
          <a:stretch/>
        </p:blipFill>
        <p:spPr>
          <a:xfrm>
            <a:off x="2265480" y="2225520"/>
            <a:ext cx="6678360" cy="449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908000" y="115920"/>
            <a:ext cx="68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осівна площа складає 4,1-5,2 млн га. Врожайність коливається від 1,5 до 2,2 тонн/га. Валовий збір — 6,0-11,4 млн тон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i.i.ua/photo/images/pic/3/4/4739243_2b6bb45b.jpg"/>
          <p:cNvPicPr/>
          <p:nvPr/>
        </p:nvPicPr>
        <p:blipFill>
          <a:blip r:embed="rId1"/>
          <a:stretch/>
        </p:blipFill>
        <p:spPr>
          <a:xfrm>
            <a:off x="2050920" y="1197000"/>
            <a:ext cx="3678480" cy="2606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www.agroportal.org.ua/userfiles/zerno.jpg"/>
          <p:cNvPicPr/>
          <p:nvPr/>
        </p:nvPicPr>
        <p:blipFill>
          <a:blip r:embed="rId2"/>
          <a:stretch/>
        </p:blipFill>
        <p:spPr>
          <a:xfrm>
            <a:off x="4678200" y="350028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2"/>
          <p:cNvSpPr/>
          <p:nvPr/>
        </p:nvSpPr>
        <p:spPr>
          <a:xfrm>
            <a:off x="1835280" y="11592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 внутрішнє споживання витрачається 4,9-6,5 млн тонн ячменю. Експортується 1,0-5,1 млн тонн. Імпорт складає до 0,1 млн тонн. Перехідні запаси — 0,7-1,2 млн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http://upload.wikimedia.org/wikipedia/commons/thumb/5/55/Hordeum-barley.jpg/275px-Hordeum-barley.jpg"/>
          <p:cNvPicPr/>
          <p:nvPr/>
        </p:nvPicPr>
        <p:blipFill>
          <a:blip r:embed="rId1"/>
          <a:stretch/>
        </p:blipFill>
        <p:spPr>
          <a:xfrm>
            <a:off x="1873080" y="2043000"/>
            <a:ext cx="2922840" cy="4050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all-creatures.org/recipes/images/i-barley.jpg"/>
          <p:cNvPicPr/>
          <p:nvPr/>
        </p:nvPicPr>
        <p:blipFill>
          <a:blip r:embed="rId2"/>
          <a:stretch/>
        </p:blipFill>
        <p:spPr>
          <a:xfrm>
            <a:off x="5021280" y="2700360"/>
            <a:ext cx="394488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88928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 третьому місці по валовому збору перебуває кукурудза, на четвертому — жи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naturalist.if.ua/wp-content/zea_mais_naturalist_if_ua.jpg"/>
          <p:cNvPicPr/>
          <p:nvPr/>
        </p:nvPicPr>
        <p:blipFill>
          <a:blip r:embed="rId1"/>
          <a:stretch/>
        </p:blipFill>
        <p:spPr>
          <a:xfrm>
            <a:off x="1403280" y="1052640"/>
            <a:ext cx="4241880" cy="2827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http://news.leit.ru/wp-content/uploads/2009/06/japan_rye_field_05.jpg"/>
          <p:cNvPicPr/>
          <p:nvPr/>
        </p:nvPicPr>
        <p:blipFill>
          <a:blip r:embed="rId2"/>
          <a:stretch/>
        </p:blipFill>
        <p:spPr>
          <a:xfrm>
            <a:off x="4556160" y="3429000"/>
            <a:ext cx="4416480" cy="325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2"/>
          <p:cNvSpPr/>
          <p:nvPr/>
        </p:nvSpPr>
        <p:spPr>
          <a:xfrm>
            <a:off x="1908000" y="1159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За обсягами валового збору їм значно поступаються овес, просо, гречка, рис, зернобобо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http://www.ueipk.com.ua/ueipk.com.ua/pic/oats.jpg"/>
          <p:cNvPicPr/>
          <p:nvPr/>
        </p:nvPicPr>
        <p:blipFill>
          <a:blip r:embed="rId1"/>
          <a:stretch/>
        </p:blipFill>
        <p:spPr>
          <a:xfrm>
            <a:off x="1979640" y="954000"/>
            <a:ext cx="2016000" cy="2691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agricultura.ru/img/images/%D0%9F%D1%80%D0%BE%D1%81%D0%BE1.jpeg"/>
          <p:cNvPicPr/>
          <p:nvPr/>
        </p:nvPicPr>
        <p:blipFill>
          <a:blip r:embed="rId2"/>
          <a:srcRect l="10211" t="0" r="11086" b="0"/>
          <a:stretch/>
        </p:blipFill>
        <p:spPr>
          <a:xfrm>
            <a:off x="4248000" y="944640"/>
            <a:ext cx="2136960" cy="271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os1.i.ua/3/1/4854998_1baccb29.jpg"/>
          <p:cNvPicPr/>
          <p:nvPr/>
        </p:nvPicPr>
        <p:blipFill>
          <a:blip r:embed="rId3"/>
          <a:srcRect l="5677" t="0" r="0" b="12061"/>
          <a:stretch/>
        </p:blipFill>
        <p:spPr>
          <a:xfrm>
            <a:off x="6647040" y="944640"/>
            <a:ext cx="2172960" cy="2700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bigpicture.ru/wp-content/uploads/2009/08/india28_.jpg"/>
          <p:cNvPicPr/>
          <p:nvPr/>
        </p:nvPicPr>
        <p:blipFill>
          <a:blip r:embed="rId4"/>
          <a:stretch/>
        </p:blipFill>
        <p:spPr>
          <a:xfrm>
            <a:off x="1758960" y="4076640"/>
            <a:ext cx="3965400" cy="2208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http://ua.td-uap.com/tl_files/pict/gorox1.jpg"/>
          <p:cNvPicPr/>
          <p:nvPr/>
        </p:nvPicPr>
        <p:blipFill>
          <a:blip r:embed="rId5"/>
          <a:stretch/>
        </p:blipFill>
        <p:spPr>
          <a:xfrm>
            <a:off x="5940360" y="4057560"/>
            <a:ext cx="3032280" cy="22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оугольник 2"/>
          <p:cNvSpPr/>
          <p:nvPr/>
        </p:nvSpPr>
        <p:spPr>
          <a:xfrm>
            <a:off x="1835280" y="11592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У лісостепу склався найважливіший в Україні район виробництва цукрового буряка, який дає країні понад 40% цукру. Вирощуванню цукрового буряка сприяють помірна кількість опадів і чорноземні ґру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www.agromark.com.ua/gall/b/1235639815.jpg"/>
          <p:cNvPicPr/>
          <p:nvPr/>
        </p:nvPicPr>
        <p:blipFill>
          <a:blip r:embed="rId1"/>
          <a:stretch/>
        </p:blipFill>
        <p:spPr>
          <a:xfrm>
            <a:off x="2151000" y="1844640"/>
            <a:ext cx="6497640" cy="43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908000" y="18900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У північній і західній частинах України вирощується ль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pics.livejournal.com/nickmet12/pic/0000g74q"/>
          <p:cNvPicPr/>
          <p:nvPr/>
        </p:nvPicPr>
        <p:blipFill>
          <a:blip r:embed="rId1"/>
          <a:stretch/>
        </p:blipFill>
        <p:spPr>
          <a:xfrm>
            <a:off x="2763720" y="914400"/>
            <a:ext cx="5408640" cy="577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13:57Z</dcterms:created>
  <dc:creator>Виталий</dc:creator>
  <dc:description/>
  <dc:language>en-US</dc:language>
  <cp:lastModifiedBy>Виталий</cp:lastModifiedBy>
  <dcterms:modified xsi:type="dcterms:W3CDTF">2011-01-27T19:32:21Z</dcterms:modified>
  <cp:revision>21</cp:revision>
  <dc:subject/>
  <dc:title>Галузева структура рослинництва</dc:title>
</cp:coreProperties>
</file>